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D730-AF1A-48FB-BC39-C2C8C150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B723-4775-4324-8576-E163FF52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611B-D016-4CA9-AEFF-76418DC4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BC82-C83A-4BE5-A1F9-18BD1098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B1F3-9410-435C-A213-40BC0187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B6CD-C242-4172-88A0-1D528A6F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FA3B-69BE-4E54-B825-658B328D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20AA-C22A-4E21-AC2B-131E4EE6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9684-1B7B-45AD-A9ED-9B42E4ED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0499-5B32-42F5-A12E-7D0508A7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02FB-0A63-4663-B644-7BE88994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8103-EB93-4570-9DA4-327F659B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486F-AE57-4263-B436-D93A98C1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1C8F-CED4-47FF-9450-27BD1D02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206B-237B-42F2-83C7-3C869E4D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9A48-CAEF-4DF1-94DA-DC0B9FC9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4052-5648-457F-948A-AABD6D3A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2A8D-435D-41BC-B9C6-0AD2E552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A4DE-0402-4E6D-AC96-EC735645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2C55-8440-4D3F-9943-71E0D496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112B-58AF-428C-8685-CDB26CDF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D57D-CC8C-44AD-8FF5-FE6BC8A0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EBB9-CC9C-4C96-BAAB-3BDE205E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E5B1-ABE8-48D4-B622-032A2BC4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5479-B613-43B5-8CAF-B5C1A8972E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CDD7-6E76-432B-A754-B97905997B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et The Truth 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e Tol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teran of 10 albums at the age of 26 and an acclaimed member of Houston's Screwed Up Click, Z-Ro is much more complex than his surface or the simple intro of THE LIFE OF JOSEPH W. MCVE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4648320" y="139068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2527c"/>
                                      </p:to>
                                    </p:animClr>
                                    <p:animClr clrSpc="rgb">
                                      <p:cBhvr>
                                        <p:cTn id="23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2527c"/>
                                      </p:to>
                                    </p:animClr>
                                    <p:set>
                                      <p:cBhvr>
                                        <p:cTn id="24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" dur="1500" fill="hold">
                                          <p:stCondLst>
                                            <p:cond delay="35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y Favorite Rapp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what u did to me was zro’s first albu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ro is my favorite artist because everything he says I can relate to h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4495680" y="2225520"/>
            <a:ext cx="411480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5000" fill="hold"/>
                                        <p:tgtEl>
                                          <p:spTgt spid="5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3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3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Joseph Mc ve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released a number of other albums during the same early-2000s stretch, having begun a couple years earlier with Look What You Did to Me (1998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4648320" y="184788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96" dur="5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5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0" dur="5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crewed Up Click Representa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-Ro has embraced his inclusion in the Screwed Up Click, a loose collective of Houston rappers associated with the famous DJ Screw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4648320" y="184788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4" dur="5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5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spired b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onically, it was while he was hustling that he discovered rap music. According to Z-RO listening to the music of Tupac, The Geto Boys, Street Military, K-Reno and Klondike Kat inspired him to hustle harder so he could one day get himself out of the trap for go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4648320" y="184788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9 0.12119 L 0.125 0.12119 L 0.048 0.19577 L 0.077 0.31697 L 0 0.24239 L -0.077 0.31697 L -0.048 0.19577 L -0.125 0.12119 L -0.029 0.12119 L 0 0 Z">
                                      <p:cBhvr>
                                        <p:cTn id="176" dur="5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80" dur="5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85" dur="2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ig Brea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going through a couple of studios recording demo after demo he finally caught a big break when he was hanging out in a studio and the CEO of a local rap label heard him free styling and signed him. In 1996 Z-RO Dropped his underground debut entitled "Look What You Done to Me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3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4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6:34:14Z</dcterms:created>
  <dc:creator>759670</dc:creator>
  <dc:description/>
  <dc:language>en-US</dc:language>
  <cp:lastModifiedBy>759670</cp:lastModifiedBy>
  <dcterms:modified xsi:type="dcterms:W3CDTF">2008-12-15T16:49:31Z</dcterms:modified>
  <cp:revision>3</cp:revision>
  <dc:subject/>
  <dc:title>Let The Truth  Be Tol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